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0.wmf" ContentType="image/x-wmf"/>
  <Override PartName="/ppt/media/image57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wmf" ContentType="image/x-wmf"/>
  <Override PartName="/ppt/media/image24.wmf" ContentType="image/x-wmf"/>
  <Override PartName="/ppt/media/image59.jpeg" ContentType="image/jpeg"/>
  <Override PartName="/ppt/media/image1.wmf" ContentType="image/x-wmf"/>
  <Override PartName="/ppt/media/image31.wmf" ContentType="image/x-wmf"/>
  <Override PartName="/ppt/media/image38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42.wmf" ContentType="image/x-wmf"/>
  <Override PartName="/ppt/media/image43.png" ContentType="image/png"/>
  <Override PartName="/ppt/media/image44.jpeg" ContentType="image/jpeg"/>
  <Override PartName="/ppt/media/image45.jpeg" ContentType="image/jpeg"/>
  <Override PartName="/ppt/media/image51.wmf" ContentType="image/x-wmf"/>
  <Override PartName="/ppt/media/image48.jpeg" ContentType="image/jpeg"/>
  <Override PartName="/ppt/media/image52.wmf" ContentType="image/x-wmf"/>
  <Override PartName="/ppt/media/image54.jpeg" ContentType="image/jpeg"/>
  <Override PartName="/ppt/media/image49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39.jpeg" ContentType="image/jpeg"/>
  <Override PartName="/ppt/media/image41.wmf" ContentType="image/x-wmf"/>
  <Override PartName="/ppt/media/image37.png" ContentType="image/png"/>
  <Override PartName="/ppt/media/image40.wmf" ContentType="image/x-wmf"/>
  <Override PartName="/ppt/media/image36.png" ContentType="image/png"/>
  <Override PartName="/ppt/media/image47.png" ContentType="image/png"/>
  <Override PartName="/ppt/media/image35.jpeg" ContentType="image/jpeg"/>
  <Override PartName="/ppt/media/image3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0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3F1-9EF6-447A-A59C-BE36AEC0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180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162-F022-415E-8FB8-AF93E3DB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380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409-B875-4D26-923E-3BE3DA6D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232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112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232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112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0B6-73E6-4BBA-8047-8CB0EE39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B236-4827-4793-9EDE-67FAA624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9A94-3D4A-4FEF-B8A1-C9D3D439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FC4F-EBF2-4382-B44B-5F3E8C6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556C-2F89-439B-978A-BF2FC1CE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A5FC-3B71-40A6-9E3B-D9F84744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70056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88CD-7C16-4312-B740-49E16F6D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AC55-5AAE-4979-8A5B-AB94234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87F-D9AE-4709-993F-E7311FE3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380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E3B9-7815-4E32-9CAF-B6A64238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A55F-E963-484D-BB43-F98880D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180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8808-B21E-4535-B30C-3B6201B0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380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457A-BE7A-42BD-BE62-87D8E22D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232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112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232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112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3726-815E-467F-A4CD-1BE72A10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A31-D989-4396-A5D9-13C3AC86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759-EFD2-4900-9420-737BE561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1E1-1F9C-4C3B-91A7-97D1A3CF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70056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508-346F-4064-B070-B42BD162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DDC-775F-46E1-A20A-D0F5E864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380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2F9-B090-4C49-B723-54EBF9C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A26-2054-4658-8A91-B6FC5B90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06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A3C9B-D079-4038-966B-16BFE218F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299520"/>
            <a:ext cx="1440" cy="130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1371240"/>
            <a:ext cx="647208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600" y="6248520"/>
            <a:ext cx="1519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680" y="6248520"/>
            <a:ext cx="12146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D7B1B6F-9445-442C-A3EB-089009A32B45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144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he First 10 Amend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31431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Freedom To 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verbal or wr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must listen but does not have to agree or make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officials have to have public addresses, phone numbers and usually email for citizens to use to contact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34280" y="838080"/>
            <a:ext cx="1809720" cy="180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15040" y="4492800"/>
            <a:ext cx="292896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Spee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more than speech – includes gestures, clothing and hair style, art, music, bumper stic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7800" y="499428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694160" cy="1752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57200" y="3429000"/>
            <a:ext cx="1812960" cy="1914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676520" y="495288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315200" y="609480"/>
            <a:ext cx="182880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Limit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Hate Speech – cannot target a group based race, color, religion, ancestry, national origin, gender, physical or mental disability or sexual ori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43642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ear and Present Dang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lling “fire” in a crowded the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incite a ri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threaten to harm a person or a person’s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1879560" cy="127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1854360" cy="181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1417680" cy="2120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2519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Obscen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rcial speech – public radio and 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dity – nudity in and of itself cannot be declared obscene simply to protect minors.  Avert the eyes test: can the person who is offended look the other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85400"/>
            <a:ext cx="70106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7058160" cy="54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hat is lies and intends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ken lies with intent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114800" cy="3743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41148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con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bear arms &amp; a well-regulated milit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can place limits on types of weapons a citizen can own and can require a waiting peri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1789200" cy="2724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75112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Thir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vernment cannot force you to quarter soldiers during peac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35268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6666"/>
                </a:solidFill>
                <a:latin typeface="Arial"/>
              </a:rPr>
              <a:t>Amendment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5 freed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ig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semb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t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ee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64492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Four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earch or seizure without a warr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ptions: fear of immediate danger, if they see, hear, smell something il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 lockers &amp; parking lot – public property and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endment protections do not a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4120" cy="2190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264440" y="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358040" y="4952880"/>
            <a:ext cx="17859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Fifth Amendment</a:t>
            </a: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e process – follow proper proced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ouble jeopardy – cannot be tried for the same crime tw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self-incrimination – cannot be forced to testify against yourself or your spo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nent domain – right of the government to take private property for public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6040" cy="2011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54760" y="1752480"/>
            <a:ext cx="4089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85400"/>
            <a:ext cx="8077320" cy="61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49000" y="185760"/>
            <a:ext cx="79851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0102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ix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y, public trial by 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call witnesses for you and to question witnesses against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law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2889000" cy="2486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ven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jury trial in civil cases over $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286000" cy="2819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2514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Eigh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xcessive bail or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ruel or unusual punis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3162240" cy="1676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592600" y="3363840"/>
            <a:ext cx="19512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have more rights than those listed in the 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Right to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41400" cy="1631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276228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reserved to the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Constitution doesn’t forbid states a right, they retain tha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6172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9240" y="127944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rts – Government cannot establish an official religion &amp; Government cannot interfere with an individual’s practice of his/he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RICTED ACTIVITES IN PUBLIC SCHOO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eaching religion (as doctrine)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ayers at graduation or before sports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40520" y="3559320"/>
            <a:ext cx="1957320" cy="1652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0324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1550880" cy="18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s on Freedom of 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do drugs, practice human sacrifice or otherwise break the law and defend it as part of you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1752480" cy="236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Freedom of Assemb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citizens’ rights to gather i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ust be pea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annot block a public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Government can require a permit but the rules for that have to be the same for 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05748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820880" cy="16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77120" y="3124080"/>
            <a:ext cx="19018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the Pr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010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publish and Right to access or read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bel – printed lies with intent to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ablo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ild in budget the cost of law 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ies from outside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d people who don’t care what is said as long as they get in the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778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7800"/>
            <a:ext cx="7010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Protected Today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But Not Invented When Bill of Rights Was Wri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381400" cy="1897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1650960" cy="180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90476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86200" y="4572000"/>
            <a:ext cx="180324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Censorship &amp; Porn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0680" indent="-490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/Literature or Smut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ld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uld the average adult in the community find it pornographic?  Is it “tending t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orruption of morals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 to be too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114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New Te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ork as a whole appeal to the prurient interest? PRURIENT INTEREST - A morbid, degrading and unhealthy interest in sex, as distinguished from a mere candid interest in s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depicts or describes sexual conduct in a patently offen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as a whole lacks serious literary, artistic, political, or scientif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743280"/>
            <a:ext cx="2286000" cy="311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7644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114300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****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1:24:15Z</dcterms:created>
  <dc:creator>ptaylor</dc:creator>
  <dc:description/>
  <dc:language>en-US</dc:language>
  <cp:lastModifiedBy>ptaylor</cp:lastModifiedBy>
  <dcterms:modified xsi:type="dcterms:W3CDTF">2007-03-14T15:35:05Z</dcterms:modified>
  <cp:revision>15</cp:revision>
  <dc:subject/>
  <dc:title>The Bill of Rights</dc:title>
</cp:coreProperties>
</file>